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WHOOSH.WAV" ContentType="audio/x-wav"/>
  <Override PartName="/ppt/media/highchime.wav" ContentType="audio/x-wav"/>
  <Override PartName="/ppt/media/CHIMES.WAV" ContentType="audio/x-wav"/>
  <Override PartName="/ppt/media/hzipup01.wav" ContentType="audio/x-wav"/>
  <Override PartName="/ppt/media/jetflyby2.wav" ContentType="audio/x-wav"/>
  <Override PartName="/ppt/media/bserie06.wav" ContentType="audio/x-wav"/>
  <Override PartName="/ppt/media/children%20wow.wav" ContentType="audio/x-wav"/>
  <Override PartName="/ppt/media/image4.gif" ContentType="image/gif"/>
  <Override PartName="/ppt/media/zipby102.wav" ContentType="audio/x-wav"/>
  <Override PartName="/ppt/media/caralarmoff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EF39-070D-4315-B508-B321008E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E1AB-4AA3-4CF7-B216-46508FF7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7C2F-1B6B-4C14-910D-DA333BDC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D77A-3B2B-44D8-BD3C-C840E49A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7BE7-74D6-43A9-AD99-D06269DB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1FBC-C536-422A-B881-2772D054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4D8C-99DB-4C82-A49C-57485FFB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70B-54E7-4E9A-A4D5-17B29BB6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21C5-9FD6-478E-9A2D-A95954DA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DD4A-DF63-445F-808D-F503091E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2241-1F93-4629-9554-4FD86AF4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088F-1E55-439B-AD0E-F17C4AD8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450C-A2A1-4254-B22A-9DAA236FB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WHOOSH.WAV"/><Relationship Id="rId5" Type="http://schemas.openxmlformats.org/officeDocument/2006/relationships/audio" Target="../media/highchime.wav"/><Relationship Id="rId6" Type="http://schemas.openxmlformats.org/officeDocument/2006/relationships/audio" Target="../media/jetflyby2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hzipup01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hzipup01.wav"/><Relationship Id="rId13" Type="http://schemas.openxmlformats.org/officeDocument/2006/relationships/audio" Target="../media/jetflyby2.wav"/><Relationship Id="rId14" Type="http://schemas.openxmlformats.org/officeDocument/2006/relationships/audio" Target="../media/hzipup01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children%20wow.wav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hzipup01.wav"/><Relationship Id="rId13" Type="http://schemas.openxmlformats.org/officeDocument/2006/relationships/audio" Target="../media/jetflyby2.wav"/><Relationship Id="rId14" Type="http://schemas.openxmlformats.org/officeDocument/2006/relationships/audio" Target="../media/hzipup01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zipby102.wav"/><Relationship Id="rId3" Type="http://schemas.openxmlformats.org/officeDocument/2006/relationships/audio" Target="../media/CHIMES.WAV"/><Relationship Id="rId4" Type="http://schemas.openxmlformats.org/officeDocument/2006/relationships/audio" Target="../media/hzipup01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hzipup01.wav"/><Relationship Id="rId12" Type="http://schemas.openxmlformats.org/officeDocument/2006/relationships/audio" Target="../media/jetflyby2.wav"/><Relationship Id="rId13" Type="http://schemas.openxmlformats.org/officeDocument/2006/relationships/audio" Target="../media/hzipup01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hzipup01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hzipup01.wav"/><Relationship Id="rId14" Type="http://schemas.openxmlformats.org/officeDocument/2006/relationships/audio" Target="../media/jetflyby2.wav"/><Relationship Id="rId15" Type="http://schemas.openxmlformats.org/officeDocument/2006/relationships/audio" Target="../media/hzipup01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children%20wow.wav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hzipup01.wav"/><Relationship Id="rId13" Type="http://schemas.openxmlformats.org/officeDocument/2006/relationships/audio" Target="../media/jetflyby2.wav"/><Relationship Id="rId14" Type="http://schemas.openxmlformats.org/officeDocument/2006/relationships/audio" Target="../media/hzipup01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children%20wow.wav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audio" Target="../media/hzipup01.wav"/><Relationship Id="rId6" Type="http://schemas.openxmlformats.org/officeDocument/2006/relationships/audio" Target="../media/hzipup01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hzipup01.wav"/><Relationship Id="rId13" Type="http://schemas.openxmlformats.org/officeDocument/2006/relationships/audio" Target="../media/jetflyby2.wav"/><Relationship Id="rId14" Type="http://schemas.openxmlformats.org/officeDocument/2006/relationships/audio" Target="../media/hzipup01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0" y="4948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n appropriate unit of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3920" y="550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.  weight of a humming b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98480" y="5937120"/>
            <a:ext cx="22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un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223920" y="53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0.  14 in =________ 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86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Dimensional Analysis to Con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333520" y="5762520"/>
                <a:ext cx="13701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4  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221000" y="5454720"/>
                <a:ext cx="119556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ft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389480" y="6113520"/>
                <a:ext cx="11937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2  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 flipH="1">
            <a:off x="3078000" y="5994360"/>
            <a:ext cx="711360" cy="2462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984920" y="6262560"/>
            <a:ext cx="668160" cy="3063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285640" y="5899320"/>
            <a:ext cx="725400" cy="3776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779480" y="5796000"/>
                <a:ext cx="412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 flipH="1">
            <a:off x="4341600" y="6238800"/>
            <a:ext cx="479160" cy="3207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890880" y="6300720"/>
                <a:ext cx="412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371680" y="5761080"/>
                <a:ext cx="1273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    1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613480" y="5375160"/>
                <a:ext cx="86508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535800" y="5748480"/>
                <a:ext cx="4539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086600" y="5359320"/>
                <a:ext cx="160956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f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223920" y="53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1.  14 pt =________ q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86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Dimensional Analysis to Con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311560" y="5692680"/>
                <a:ext cx="14158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4  p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179960" y="5454720"/>
                <a:ext cx="127800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qt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471920" y="6051600"/>
                <a:ext cx="1028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 p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 flipH="1">
            <a:off x="3078000" y="5994360"/>
            <a:ext cx="711360" cy="2462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984920" y="6262560"/>
            <a:ext cx="668160" cy="3063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285640" y="5899320"/>
            <a:ext cx="725400" cy="3776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779480" y="5796000"/>
                <a:ext cx="412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H="1">
            <a:off x="4341600" y="6238800"/>
            <a:ext cx="479160" cy="3207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952800" y="6321600"/>
                <a:ext cx="2890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314440" y="5761080"/>
                <a:ext cx="1273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    1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654520" y="5695920"/>
                <a:ext cx="9208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6537240" y="5756400"/>
                <a:ext cx="53676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223920" y="53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2.  3 mi =________ 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86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Dimensional Analysis to Con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381400" y="5740560"/>
                <a:ext cx="1274760" cy="66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m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809880" y="5454720"/>
                <a:ext cx="201960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280  ft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471920" y="6113520"/>
                <a:ext cx="10288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  m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 flipH="1">
            <a:off x="3078000" y="5994360"/>
            <a:ext cx="711360" cy="2462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984920" y="6262560"/>
            <a:ext cx="668160" cy="3063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414520" y="5761080"/>
                <a:ext cx="1273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    1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803920" y="5749920"/>
                <a:ext cx="213192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972560" y="5776920"/>
                <a:ext cx="4539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289560" y="455760"/>
            <a:ext cx="2667240" cy="3333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609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-World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990720"/>
            <a:ext cx="6472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13.   Fred’s fruit stand sells homemade lemonade in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6.5-pint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 bottles for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$1.99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. Jill’s fruit stand sells homemade lemonade in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3.5-qt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 bottles for the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ame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 price. At which stand do you get the most lemonade for the mone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147680" y="3605040"/>
                <a:ext cx="26067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qt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2  p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79400" y="4510080"/>
                <a:ext cx="17478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 p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419200" y="4167360"/>
                <a:ext cx="160200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qt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779560" y="5043600"/>
                <a:ext cx="12924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p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 flipH="1">
            <a:off x="1771560" y="4818240"/>
            <a:ext cx="711360" cy="2458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316320" y="5334120"/>
            <a:ext cx="668160" cy="3063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907920" y="4694400"/>
            <a:ext cx="725760" cy="3776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0" y="4417920"/>
                <a:ext cx="9907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 flipH="1">
            <a:off x="2746440" y="5222880"/>
            <a:ext cx="479520" cy="3207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414520" y="5234040"/>
                <a:ext cx="2890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970440" y="4622760"/>
                <a:ext cx="16477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622840" y="4718160"/>
                <a:ext cx="5796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863720" y="5854680"/>
            <a:ext cx="57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Jill’s stand is a better de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0" y="4948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n appropriate unit of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3920" y="550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.  length of a soccer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98480" y="5937120"/>
            <a:ext cx="22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y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0" y="4948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n appropriate unit of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3920" y="550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3.  capacity of a eyedrop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98480" y="5937120"/>
            <a:ext cx="22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u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0" y="4948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n appropriate unit of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3920" y="550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4.  weight of a 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98480" y="5937120"/>
            <a:ext cx="22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0" y="4948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n appropriate unit of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3920" y="550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5.  length of a pe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98480" y="5937120"/>
            <a:ext cx="22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in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0" y="4948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n appropriate unit of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3920" y="550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6.  capacity of a milk j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98480" y="5937120"/>
            <a:ext cx="325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gall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223920" y="53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7.  10 quarts to gall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86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Dimensional Analysis to Con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682720" y="5735520"/>
                <a:ext cx="13701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q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076640" y="5454720"/>
                <a:ext cx="148428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gal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11800" y="6197760"/>
                <a:ext cx="1030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q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H="1">
            <a:off x="3323880" y="5950080"/>
            <a:ext cx="725400" cy="3776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97000" y="6305400"/>
            <a:ext cx="725400" cy="37800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677680" y="5913360"/>
            <a:ext cx="725400" cy="37800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265480" y="5838840"/>
                <a:ext cx="3715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 flipH="1">
            <a:off x="4282560" y="6354720"/>
            <a:ext cx="567000" cy="3063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890880" y="6321600"/>
                <a:ext cx="412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73280" y="5761080"/>
                <a:ext cx="1273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    1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540400" y="5375160"/>
                <a:ext cx="86508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361200" y="5707080"/>
                <a:ext cx="7430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7162920" y="5345280"/>
                <a:ext cx="198108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ga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23920" y="53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8.  68 fluid ounces to c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86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Dimensional Analysis to Con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181240" y="5753160"/>
                <a:ext cx="19368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8  fl o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262400" y="5454720"/>
                <a:ext cx="111276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c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206960" y="6238800"/>
                <a:ext cx="1441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 fl o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 flipH="1">
            <a:off x="3121200" y="5994360"/>
            <a:ext cx="914400" cy="2462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797000" y="6305400"/>
            <a:ext cx="725400" cy="37800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169720" y="5899320"/>
            <a:ext cx="725400" cy="3776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46200" y="5796000"/>
                <a:ext cx="6192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 flipH="1">
            <a:off x="4197240" y="6354720"/>
            <a:ext cx="479520" cy="3207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890880" y="6321600"/>
                <a:ext cx="412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544840" y="5761080"/>
                <a:ext cx="127296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    1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510160" y="5375160"/>
                <a:ext cx="107172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576840" y="5810400"/>
                <a:ext cx="3715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107120" y="5359320"/>
                <a:ext cx="15685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36520" y="655560"/>
            <a:ext cx="2630520" cy="1513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873600" y="804960"/>
            <a:ext cx="1412640" cy="1135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992920" y="690480"/>
            <a:ext cx="890640" cy="125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1050840" y="2075040"/>
          <a:ext cx="6504120" cy="2809800"/>
        </p:xfrm>
        <a:graphic>
          <a:graphicData uri="http://schemas.openxmlformats.org/drawingml/2006/table">
            <a:tbl>
              <a:tblPr/>
              <a:tblGrid>
                <a:gridCol w="2668680"/>
                <a:gridCol w="1935000"/>
                <a:gridCol w="190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foot. = 12 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c = 8 fl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lb = 16 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yd = 3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t = 2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t = 2000 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mi = 5,280 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qt = 2 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gal = 4 q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23920" y="531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9.  14 oz =________ 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86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Dimensional Analysis to Con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330280" y="5738760"/>
                <a:ext cx="14637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4  o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179960" y="5454720"/>
                <a:ext cx="127800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lb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348080" y="6093000"/>
                <a:ext cx="1276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6  o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 flipH="1">
            <a:off x="3078000" y="5994360"/>
            <a:ext cx="711360" cy="2462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984920" y="6262560"/>
            <a:ext cx="668160" cy="3063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285640" y="5899320"/>
            <a:ext cx="725400" cy="3776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779480" y="5796000"/>
                <a:ext cx="412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 flipH="1">
            <a:off x="4341600" y="6238800"/>
            <a:ext cx="479160" cy="32076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911760" y="6300720"/>
                <a:ext cx="3711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341440" y="5761080"/>
                <a:ext cx="1273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    1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613480" y="5375160"/>
                <a:ext cx="86508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494400" y="5748480"/>
                <a:ext cx="5367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5-03-01T18:19:18Z</dcterms:modified>
  <cp:revision>123</cp:revision>
  <dc:subject/>
  <dc:title>No Slide Title</dc:title>
</cp:coreProperties>
</file>